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9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4.gif" ContentType="image/gif"/>
  <Override PartName="/ppt/media/image6.gif" ContentType="image/gif"/>
  <Override PartName="/ppt/media/image11.gif" ContentType="image/gif"/>
  <Override PartName="/ppt/media/image5.jpeg" ContentType="image/jpeg"/>
  <Override PartName="/ppt/media/image7.gif" ContentType="image/gif"/>
  <Override PartName="/ppt/media/image13.gif" ContentType="image/gif"/>
  <Override PartName="/ppt/media/image16.png" ContentType="image/png"/>
  <Override PartName="/ppt/media/image15.png" ContentType="image/png"/>
  <Override PartName="/ppt/media/image12.gif" ContentType="image/gif"/>
  <Override PartName="/ppt/media/image3.jpeg" ContentType="image/jpeg"/>
  <Override PartName="/ppt/media/image8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89DF-7E2D-462E-A8CE-83BBA452F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4606-6CDB-4420-9BFC-71951469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F84D-43D8-4472-88F7-0CBDAD147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E3B2-B1AF-4D24-8C14-57FF16A7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1668-74E0-4BF5-87C6-37A52119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B9B4-F234-4517-9776-5A720DB2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9B8B-E8FD-4528-893A-62F32BB1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EDD9-714E-45E9-BF55-55B5793E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5A27-B4F7-44E3-AE59-80DAA007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7C0E-AD14-40D8-892A-F8D11688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38C1-F1B1-4BF6-A39A-170A1762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D59F-6FC6-4299-A1CD-DAC036E5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C00A-C25F-4DC9-BE9A-896E8B416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2.gif"/><Relationship Id="rId3" Type="http://schemas.openxmlformats.org/officeDocument/2006/relationships/image" Target="../media/image6.gif"/><Relationship Id="rId4" Type="http://schemas.openxmlformats.org/officeDocument/2006/relationships/image" Target="../media/image5.jpeg"/><Relationship Id="rId5" Type="http://schemas.openxmlformats.org/officeDocument/2006/relationships/image" Target="../media/image4.gif"/><Relationship Id="rId6" Type="http://schemas.openxmlformats.org/officeDocument/2006/relationships/image" Target="../media/image3.jpeg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2.gif"/><Relationship Id="rId10" Type="http://schemas.openxmlformats.org/officeDocument/2006/relationships/image" Target="../media/image1.gif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2.gif"/><Relationship Id="rId3" Type="http://schemas.openxmlformats.org/officeDocument/2006/relationships/image" Target="../media/image6.gif"/><Relationship Id="rId4" Type="http://schemas.openxmlformats.org/officeDocument/2006/relationships/image" Target="../media/image5.jpeg"/><Relationship Id="rId5" Type="http://schemas.openxmlformats.org/officeDocument/2006/relationships/image" Target="../media/image4.gif"/><Relationship Id="rId6" Type="http://schemas.openxmlformats.org/officeDocument/2006/relationships/image" Target="../media/image3.jpeg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2.gif"/><Relationship Id="rId10" Type="http://schemas.openxmlformats.org/officeDocument/2006/relationships/image" Target="../media/image1.gif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2.gif"/><Relationship Id="rId3" Type="http://schemas.openxmlformats.org/officeDocument/2006/relationships/image" Target="../media/image6.gif"/><Relationship Id="rId4" Type="http://schemas.openxmlformats.org/officeDocument/2006/relationships/image" Target="../media/image5.jpeg"/><Relationship Id="rId5" Type="http://schemas.openxmlformats.org/officeDocument/2006/relationships/image" Target="../media/image4.gif"/><Relationship Id="rId6" Type="http://schemas.openxmlformats.org/officeDocument/2006/relationships/image" Target="../media/image3.jpeg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2.gif"/><Relationship Id="rId10" Type="http://schemas.openxmlformats.org/officeDocument/2006/relationships/image" Target="../media/image1.gif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2.gif"/><Relationship Id="rId3" Type="http://schemas.openxmlformats.org/officeDocument/2006/relationships/image" Target="../media/image6.gif"/><Relationship Id="rId4" Type="http://schemas.openxmlformats.org/officeDocument/2006/relationships/image" Target="../media/image5.jpeg"/><Relationship Id="rId5" Type="http://schemas.openxmlformats.org/officeDocument/2006/relationships/image" Target="../media/image4.gif"/><Relationship Id="rId6" Type="http://schemas.openxmlformats.org/officeDocument/2006/relationships/image" Target="../media/image3.jpeg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2.gif"/><Relationship Id="rId10" Type="http://schemas.openxmlformats.org/officeDocument/2006/relationships/image" Target="../media/image1.gif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2.gif"/><Relationship Id="rId3" Type="http://schemas.openxmlformats.org/officeDocument/2006/relationships/image" Target="../media/image6.gif"/><Relationship Id="rId4" Type="http://schemas.openxmlformats.org/officeDocument/2006/relationships/image" Target="../media/image5.jpeg"/><Relationship Id="rId5" Type="http://schemas.openxmlformats.org/officeDocument/2006/relationships/image" Target="../media/image4.gif"/><Relationship Id="rId6" Type="http://schemas.openxmlformats.org/officeDocument/2006/relationships/image" Target="../media/image3.jpeg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2.gif"/><Relationship Id="rId10" Type="http://schemas.openxmlformats.org/officeDocument/2006/relationships/image" Target="../media/image1.gif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2.gif"/><Relationship Id="rId3" Type="http://schemas.openxmlformats.org/officeDocument/2006/relationships/image" Target="../media/image6.gif"/><Relationship Id="rId4" Type="http://schemas.openxmlformats.org/officeDocument/2006/relationships/image" Target="../media/image5.jpeg"/><Relationship Id="rId5" Type="http://schemas.openxmlformats.org/officeDocument/2006/relationships/image" Target="../media/image4.gif"/><Relationship Id="rId6" Type="http://schemas.openxmlformats.org/officeDocument/2006/relationships/image" Target="../media/image3.jpeg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2.gif"/><Relationship Id="rId10" Type="http://schemas.openxmlformats.org/officeDocument/2006/relationships/image" Target="../media/image1.gif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2.gif"/><Relationship Id="rId3" Type="http://schemas.openxmlformats.org/officeDocument/2006/relationships/image" Target="../media/image6.gif"/><Relationship Id="rId4" Type="http://schemas.openxmlformats.org/officeDocument/2006/relationships/image" Target="../media/image5.jpeg"/><Relationship Id="rId5" Type="http://schemas.openxmlformats.org/officeDocument/2006/relationships/image" Target="../media/image4.gif"/><Relationship Id="rId6" Type="http://schemas.openxmlformats.org/officeDocument/2006/relationships/image" Target="../media/image3.jpeg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2.gif"/><Relationship Id="rId10" Type="http://schemas.openxmlformats.org/officeDocument/2006/relationships/image" Target="../media/image1.gif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2.gif"/><Relationship Id="rId3" Type="http://schemas.openxmlformats.org/officeDocument/2006/relationships/image" Target="../media/image6.gif"/><Relationship Id="rId4" Type="http://schemas.openxmlformats.org/officeDocument/2006/relationships/image" Target="../media/image5.jpeg"/><Relationship Id="rId5" Type="http://schemas.openxmlformats.org/officeDocument/2006/relationships/image" Target="../media/image4.gif"/><Relationship Id="rId6" Type="http://schemas.openxmlformats.org/officeDocument/2006/relationships/image" Target="../media/image3.jpeg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2.gif"/><Relationship Id="rId10" Type="http://schemas.openxmlformats.org/officeDocument/2006/relationships/image" Target="../media/image1.gif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2.gif"/><Relationship Id="rId3" Type="http://schemas.openxmlformats.org/officeDocument/2006/relationships/image" Target="../media/image6.gif"/><Relationship Id="rId4" Type="http://schemas.openxmlformats.org/officeDocument/2006/relationships/image" Target="../media/image5.jpeg"/><Relationship Id="rId5" Type="http://schemas.openxmlformats.org/officeDocument/2006/relationships/image" Target="../media/image4.gif"/><Relationship Id="rId6" Type="http://schemas.openxmlformats.org/officeDocument/2006/relationships/image" Target="../media/image3.jpeg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2.gif"/><Relationship Id="rId10" Type="http://schemas.openxmlformats.org/officeDocument/2006/relationships/image" Target="../media/image1.gif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59280" y="2565360"/>
            <a:ext cx="2597040" cy="3933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le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per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27280" y="2492280"/>
            <a:ext cx="32400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ga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995640" y="2781360"/>
            <a:ext cx="295128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16360" y="404640"/>
            <a:ext cx="1352520" cy="1413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1278000" cy="1512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148360" y="189000"/>
            <a:ext cx="2611440" cy="1258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55640" y="2708280"/>
            <a:ext cx="1155600" cy="1444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2771640" y="2708280"/>
            <a:ext cx="1576440" cy="1292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7236000" y="2349360"/>
            <a:ext cx="1649160" cy="1649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250920" y="4653000"/>
            <a:ext cx="2300040" cy="1533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5219640" y="479736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3059280" y="4581360"/>
            <a:ext cx="1434960" cy="1435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0"/>
          <a:stretch/>
        </p:blipFill>
        <p:spPr>
          <a:xfrm>
            <a:off x="5292720" y="2276640"/>
            <a:ext cx="1362240" cy="2062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1"/>
          <a:stretch/>
        </p:blipFill>
        <p:spPr>
          <a:xfrm>
            <a:off x="7667640" y="4581360"/>
            <a:ext cx="952560" cy="1424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4360" y="1989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la tort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1520" y="199404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la gal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52000" y="15620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el pája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1840" y="407664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el bu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31120" y="393372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el elef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64160" y="436572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el le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15360" y="37893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el cuc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2360" y="587700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el p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60520" y="59500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el ga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587700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el cang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78920" y="60213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el cis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916360" y="404640"/>
            <a:ext cx="1352520" cy="1413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1278000" cy="1512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148360" y="189000"/>
            <a:ext cx="2611440" cy="1258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755640" y="2708280"/>
            <a:ext cx="1155600" cy="1444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2771640" y="2708280"/>
            <a:ext cx="1576440" cy="1292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308720" y="2637000"/>
            <a:ext cx="1649520" cy="1649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250920" y="4653000"/>
            <a:ext cx="2300040" cy="1533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5219640" y="479736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3059280" y="4581360"/>
            <a:ext cx="1434960" cy="1435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0"/>
          <a:stretch/>
        </p:blipFill>
        <p:spPr>
          <a:xfrm>
            <a:off x="5292720" y="2276640"/>
            <a:ext cx="1362240" cy="2062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1"/>
          <a:stretch/>
        </p:blipFill>
        <p:spPr>
          <a:xfrm>
            <a:off x="7667640" y="4581360"/>
            <a:ext cx="95256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916360" y="404640"/>
            <a:ext cx="1352520" cy="1413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1278000" cy="1512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076720" y="476280"/>
            <a:ext cx="2611440" cy="1258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755640" y="2708280"/>
            <a:ext cx="1155600" cy="1444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771640" y="2708280"/>
            <a:ext cx="1576440" cy="1292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7308720" y="2637000"/>
            <a:ext cx="1649520" cy="1649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250920" y="4653000"/>
            <a:ext cx="2300040" cy="1533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5219640" y="479736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3059280" y="4581360"/>
            <a:ext cx="1434960" cy="1435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0"/>
          <a:stretch/>
        </p:blipFill>
        <p:spPr>
          <a:xfrm>
            <a:off x="5292720" y="2276640"/>
            <a:ext cx="1362240" cy="2062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1"/>
          <a:stretch/>
        </p:blipFill>
        <p:spPr>
          <a:xfrm>
            <a:off x="7667640" y="4581360"/>
            <a:ext cx="95256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916360" y="404640"/>
            <a:ext cx="1352520" cy="1413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1278000" cy="1512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39640" y="4724280"/>
            <a:ext cx="2611440" cy="1258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755640" y="2708280"/>
            <a:ext cx="1155600" cy="1444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2771640" y="2708280"/>
            <a:ext cx="1576440" cy="1292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7308720" y="2637000"/>
            <a:ext cx="1649520" cy="1649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>
            <a:off x="6843600" y="765000"/>
            <a:ext cx="2300400" cy="1533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8"/>
          <a:stretch/>
        </p:blipFill>
        <p:spPr>
          <a:xfrm>
            <a:off x="4932360" y="47628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9"/>
          <a:stretch/>
        </p:blipFill>
        <p:spPr>
          <a:xfrm>
            <a:off x="3059280" y="4581360"/>
            <a:ext cx="1434960" cy="1435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0"/>
          <a:stretch/>
        </p:blipFill>
        <p:spPr>
          <a:xfrm>
            <a:off x="5292720" y="2276640"/>
            <a:ext cx="1362240" cy="2062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1"/>
          <a:stretch/>
        </p:blipFill>
        <p:spPr>
          <a:xfrm>
            <a:off x="7667640" y="4581360"/>
            <a:ext cx="95256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916360" y="404640"/>
            <a:ext cx="1352520" cy="1413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1278000" cy="1512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076720" y="476280"/>
            <a:ext cx="2611440" cy="1258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508720" y="4508640"/>
            <a:ext cx="1155600" cy="1444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2771640" y="2708280"/>
            <a:ext cx="1576440" cy="1292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7308720" y="2637000"/>
            <a:ext cx="1649520" cy="1649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250920" y="4653000"/>
            <a:ext cx="2300040" cy="1533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7451640" y="47628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5435640" y="2133720"/>
            <a:ext cx="1434960" cy="1434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0"/>
          <a:stretch/>
        </p:blipFill>
        <p:spPr>
          <a:xfrm>
            <a:off x="2916360" y="4149720"/>
            <a:ext cx="1361880" cy="2062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1"/>
          <a:stretch/>
        </p:blipFill>
        <p:spPr>
          <a:xfrm>
            <a:off x="7667640" y="4581360"/>
            <a:ext cx="95256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916360" y="404640"/>
            <a:ext cx="1352520" cy="1413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971640" y="4508640"/>
            <a:ext cx="1278000" cy="1512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627280" y="4653000"/>
            <a:ext cx="2611440" cy="1258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971640" y="2492280"/>
            <a:ext cx="1155600" cy="1444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771640" y="2708280"/>
            <a:ext cx="1576440" cy="1292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7308720" y="2637000"/>
            <a:ext cx="1649520" cy="1649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0" y="620640"/>
            <a:ext cx="2300400" cy="1533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5219640" y="479736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7451640" y="549360"/>
            <a:ext cx="1435320" cy="14349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0"/>
          <a:stretch/>
        </p:blipFill>
        <p:spPr>
          <a:xfrm>
            <a:off x="5292720" y="2276640"/>
            <a:ext cx="1362240" cy="2062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1"/>
          <a:stretch/>
        </p:blipFill>
        <p:spPr>
          <a:xfrm>
            <a:off x="5580000" y="260280"/>
            <a:ext cx="95256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03640" y="476280"/>
            <a:ext cx="1352520" cy="1413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451640" y="549360"/>
            <a:ext cx="1278000" cy="1512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79280" y="692280"/>
            <a:ext cx="2611440" cy="1258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755640" y="2708280"/>
            <a:ext cx="1155600" cy="14446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2771640" y="2708280"/>
            <a:ext cx="1576440" cy="1292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5219640" y="404640"/>
            <a:ext cx="1649520" cy="1649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250920" y="4653000"/>
            <a:ext cx="2300040" cy="1533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5435640" y="472428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7451640" y="4653000"/>
            <a:ext cx="1435320" cy="14349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0"/>
          <a:stretch/>
        </p:blipFill>
        <p:spPr>
          <a:xfrm>
            <a:off x="5292720" y="2276640"/>
            <a:ext cx="1362240" cy="2062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3203640" y="4653000"/>
            <a:ext cx="952560" cy="14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916360" y="404640"/>
            <a:ext cx="1352520" cy="1413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1278000" cy="1512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076720" y="476280"/>
            <a:ext cx="2611440" cy="1258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755640" y="2708280"/>
            <a:ext cx="1155600" cy="14446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2771640" y="2708280"/>
            <a:ext cx="1576440" cy="1292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7308720" y="2637000"/>
            <a:ext cx="1649520" cy="1649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250920" y="4653000"/>
            <a:ext cx="2300040" cy="1533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5219640" y="479736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9"/>
          <a:stretch/>
        </p:blipFill>
        <p:spPr>
          <a:xfrm>
            <a:off x="3059280" y="4581360"/>
            <a:ext cx="1434960" cy="14353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5292720" y="2276640"/>
            <a:ext cx="1362240" cy="2062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1"/>
          <a:stretch/>
        </p:blipFill>
        <p:spPr>
          <a:xfrm>
            <a:off x="7667640" y="4581360"/>
            <a:ext cx="952560" cy="14241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43280" y="2708280"/>
            <a:ext cx="3308400" cy="3308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42920" y="112536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gal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116000" y="508464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int-Sa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16000" y="476280"/>
            <a:ext cx="6985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l carnaval de los animales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132000" y="2205000"/>
            <a:ext cx="2851200" cy="28512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1332000" y="5300640"/>
            <a:ext cx="6696000" cy="13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¿Qué dicen los animale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over the world, different people think that different animals make different s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noise does a frog ma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ONG! In France people think it says “coa-coa” and in Argentina “berp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059280" y="2565360"/>
            <a:ext cx="2597040" cy="39337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le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2349360"/>
            <a:ext cx="3600360" cy="1511280"/>
          </a:xfrm>
          <a:prstGeom prst="wedgeRoundRectCallout">
            <a:avLst>
              <a:gd name="adj1" fmla="val -43078"/>
              <a:gd name="adj2" fmla="val 7951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¡grgrgrgrg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843280" y="2708280"/>
            <a:ext cx="3308400" cy="33084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042920" y="112536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gal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1773360"/>
            <a:ext cx="2303640" cy="2952720"/>
          </a:xfrm>
          <a:prstGeom prst="wedgeEllipseCallout">
            <a:avLst>
              <a:gd name="adj1" fmla="val 74189"/>
              <a:gd name="adj2" fmla="val -5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50760" y="2655720"/>
            <a:ext cx="218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¡kikirikí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556000" y="191628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cuc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16720" y="907920"/>
            <a:ext cx="2087640" cy="252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59640" y="162864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Cu-c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547640" y="2565360"/>
            <a:ext cx="3953160" cy="3241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elefa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92720" y="2060640"/>
            <a:ext cx="3672000" cy="1800000"/>
          </a:xfrm>
          <a:prstGeom prst="wedgeEllipseCallout">
            <a:avLst>
              <a:gd name="adj1" fmla="val -40402"/>
              <a:gd name="adj2" fmla="val 94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14920" y="263700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prraaaaahhh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916360" y="2421000"/>
            <a:ext cx="2998800" cy="3747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bur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1773360"/>
            <a:ext cx="2735280" cy="2160360"/>
          </a:xfrm>
          <a:prstGeom prst="wedgeRoundRectCallout">
            <a:avLst>
              <a:gd name="adj1" fmla="val 54120"/>
              <a:gd name="adj2" fmla="val 7189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227664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íja!  ¡íj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619280" y="2852640"/>
            <a:ext cx="6356160" cy="30625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pája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1844640"/>
            <a:ext cx="2663640" cy="1297080"/>
          </a:xfrm>
          <a:prstGeom prst="wedgeRectCallout">
            <a:avLst>
              <a:gd name="adj1" fmla="val -40703"/>
              <a:gd name="adj2" fmla="val 1032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19640" y="213372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pío pí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76720" y="2924280"/>
            <a:ext cx="2938320" cy="30700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La galli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1484280"/>
            <a:ext cx="2592360" cy="1800360"/>
          </a:xfrm>
          <a:prstGeom prst="wedgeRoundRectCallout">
            <a:avLst>
              <a:gd name="adj1" fmla="val -65370"/>
              <a:gd name="adj2" fmla="val 8421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coc co co coc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La va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00000" y="2133720"/>
            <a:ext cx="2592360" cy="1366560"/>
          </a:xfrm>
          <a:prstGeom prst="wedgeRoundRectCallout">
            <a:avLst>
              <a:gd name="adj1" fmla="val 75717"/>
              <a:gd name="adj2" fmla="val 109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¡muuu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11640" y="2349360"/>
            <a:ext cx="2873520" cy="33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56000" y="191628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cuc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La ove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27640" y="1484280"/>
            <a:ext cx="2592360" cy="1800360"/>
          </a:xfrm>
          <a:prstGeom prst="wedgeRoundRectCallout">
            <a:avLst>
              <a:gd name="adj1" fmla="val -65370"/>
              <a:gd name="adj2" fmla="val 8421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beee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362448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per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627280" y="2492280"/>
            <a:ext cx="3240000" cy="32403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651640" y="1484280"/>
            <a:ext cx="3492360" cy="23763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2000" y="2205000"/>
            <a:ext cx="31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guau gua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ga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92360" y="2060640"/>
            <a:ext cx="31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mia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995640" y="2781360"/>
            <a:ext cx="2951280" cy="25891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476360" y="1989000"/>
            <a:ext cx="2521080" cy="1871640"/>
          </a:xfrm>
          <a:prstGeom prst="wedgeEllipseCallout">
            <a:avLst>
              <a:gd name="adj1" fmla="val 73930"/>
              <a:gd name="adj2" fmla="val 41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¡mia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835280" y="1700280"/>
            <a:ext cx="592272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¡A  jugar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"/>
          <p:cNvSpPr/>
          <p:nvPr/>
        </p:nvSpPr>
        <p:spPr>
          <a:xfrm>
            <a:off x="971640" y="4724280"/>
            <a:ext cx="77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¿Cuál de los animales hace estos sonid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La va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00000" y="2133720"/>
            <a:ext cx="2592360" cy="1366560"/>
          </a:xfrm>
          <a:prstGeom prst="wedgeRoundRectCallout">
            <a:avLst>
              <a:gd name="adj1" fmla="val 75717"/>
              <a:gd name="adj2" fmla="val 109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¡muuu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211640" y="2349360"/>
            <a:ext cx="2873520" cy="33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547640" y="2565360"/>
            <a:ext cx="3953160" cy="32418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elefa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92720" y="2060640"/>
            <a:ext cx="3672000" cy="1800000"/>
          </a:xfrm>
          <a:prstGeom prst="wedgeEllipseCallout">
            <a:avLst>
              <a:gd name="adj1" fmla="val -40402"/>
              <a:gd name="adj2" fmla="val 94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614920" y="263700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prraaaaahhh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059280" y="2565360"/>
            <a:ext cx="2597040" cy="39337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le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76720" y="1628640"/>
            <a:ext cx="3600720" cy="1511280"/>
          </a:xfrm>
          <a:prstGeom prst="wedgeRoundRectCallout">
            <a:avLst>
              <a:gd name="adj1" fmla="val -43078"/>
              <a:gd name="adj2" fmla="val 7951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¡grgrgrgrg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619280" y="2852640"/>
            <a:ext cx="6356160" cy="30625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pája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1844640"/>
            <a:ext cx="2663640" cy="1297080"/>
          </a:xfrm>
          <a:prstGeom prst="wedgeRectCallout">
            <a:avLst>
              <a:gd name="adj1" fmla="val -40703"/>
              <a:gd name="adj2" fmla="val 1032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19640" y="213372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pío pí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843280" y="2708280"/>
            <a:ext cx="3308400" cy="3308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042920" y="112536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gal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5640" y="1773360"/>
            <a:ext cx="2303640" cy="2952720"/>
          </a:xfrm>
          <a:prstGeom prst="wedgeEllipseCallout">
            <a:avLst>
              <a:gd name="adj1" fmla="val 74189"/>
              <a:gd name="adj2" fmla="val -5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50760" y="2655720"/>
            <a:ext cx="218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¡kikirikí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916360" y="2421000"/>
            <a:ext cx="2998800" cy="37479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bur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" y="1773360"/>
            <a:ext cx="2735280" cy="2160360"/>
          </a:xfrm>
          <a:prstGeom prst="wedgeRoundRectCallout">
            <a:avLst>
              <a:gd name="adj1" fmla="val 54120"/>
              <a:gd name="adj2" fmla="val 7189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227664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íja!  ¡íj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47640" y="2565360"/>
            <a:ext cx="3953160" cy="3241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elefa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556000" y="191628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cuc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516720" y="907920"/>
            <a:ext cx="2087640" cy="252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659640" y="162864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Cu-c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per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627280" y="2492280"/>
            <a:ext cx="3240000" cy="32403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651640" y="1484280"/>
            <a:ext cx="3492360" cy="23763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12000" y="2205000"/>
            <a:ext cx="31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guau gua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8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276720" y="2924280"/>
            <a:ext cx="2938320" cy="30700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La galli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27640" y="1484280"/>
            <a:ext cx="2592360" cy="1800360"/>
          </a:xfrm>
          <a:prstGeom prst="wedgeRoundRectCallout">
            <a:avLst>
              <a:gd name="adj1" fmla="val -65370"/>
              <a:gd name="adj2" fmla="val 8421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coc co co coc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La ove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27640" y="1484280"/>
            <a:ext cx="2592360" cy="1800360"/>
          </a:xfrm>
          <a:prstGeom prst="wedgeRoundRectCallout">
            <a:avLst>
              <a:gd name="adj1" fmla="val -65370"/>
              <a:gd name="adj2" fmla="val 8421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beee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362448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916360" y="404640"/>
            <a:ext cx="1352520" cy="1413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1278000" cy="15127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5076720" y="476280"/>
            <a:ext cx="2611440" cy="1258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755640" y="2708280"/>
            <a:ext cx="1155600" cy="14446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2771640" y="2708280"/>
            <a:ext cx="1576440" cy="12924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7308720" y="2637000"/>
            <a:ext cx="1649520" cy="16491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250920" y="4653000"/>
            <a:ext cx="2300040" cy="1533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8"/>
          <a:stretch/>
        </p:blipFill>
        <p:spPr>
          <a:xfrm>
            <a:off x="5219640" y="479736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9"/>
          <a:stretch/>
        </p:blipFill>
        <p:spPr>
          <a:xfrm>
            <a:off x="3059280" y="4581360"/>
            <a:ext cx="1434960" cy="14353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0"/>
          <a:stretch/>
        </p:blipFill>
        <p:spPr>
          <a:xfrm>
            <a:off x="5292720" y="2276640"/>
            <a:ext cx="1362240" cy="20620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1"/>
          <a:stretch/>
        </p:blipFill>
        <p:spPr>
          <a:xfrm>
            <a:off x="7667640" y="4581360"/>
            <a:ext cx="95256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16360" y="2421000"/>
            <a:ext cx="2998800" cy="3747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bur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19280" y="2852640"/>
            <a:ext cx="6356160" cy="3062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pája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2924280"/>
            <a:ext cx="2938320" cy="3070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La galli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La va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211640" y="2349360"/>
            <a:ext cx="2873520" cy="33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La ove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362448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20:47:28Z</dcterms:created>
  <dc:creator>Lisa Stevens</dc:creator>
  <dc:description/>
  <dc:language>en-US</dc:language>
  <cp:lastModifiedBy>Owner1</cp:lastModifiedBy>
  <dcterms:modified xsi:type="dcterms:W3CDTF">2008-07-10T16:10:48Z</dcterms:modified>
  <cp:revision>4</cp:revision>
  <dc:subject/>
  <dc:title>Slide 1</dc:title>
</cp:coreProperties>
</file>